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6585-D546-4730-901B-D3738594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4EE4-54CB-4402-90D6-DB8A6488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80E-DF1E-4C56-BD47-3A4DEC78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0F5D-81C5-4F8D-A7CC-EC4726CF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5AA-8CA3-49E5-8C63-33E5FA91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324-EB13-4BAA-85C4-06C4381D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978-B7C3-4B2B-A8D5-AA3A86B3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410A-A834-4ADE-8957-55C09CD9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21D-8865-4A90-A4B1-6FD00F0C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FCA4-093C-4FE4-AE45-29396A26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6DED-EF0C-4B98-92AC-6C9F76E6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6EB-823F-4B74-AFCF-3C3CA602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FFA5-A604-4D77-883B-F616DFC51BD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../Ucem-2008/Presentaciones/Presentaci&#243;n_Feria_Posgrados_base.ppt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4928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328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 rot="721800">
            <a:off x="755280" y="0"/>
            <a:ext cx="360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Berlin Sans FB Demi"/>
              </a:rPr>
              <a:t>Dirigida 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Berlin Sans FB Demi"/>
              <a:ea typeface="Berlin Sans FB Dem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rcRect l="6753" t="0" r="7844" b="76825"/>
          <a:stretch/>
        </p:blipFill>
        <p:spPr>
          <a:xfrm rot="20662200">
            <a:off x="5292720" y="259920"/>
            <a:ext cx="3564000" cy="1668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0080" y="2421000"/>
            <a:ext cx="565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Relaciones Inter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6960" y="2898720"/>
            <a:ext cx="38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Comercio Ex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1520" y="3457440"/>
            <a:ext cx="21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Abog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6520" y="5616720"/>
            <a:ext cx="251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Con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5560" y="4537080"/>
            <a:ext cx="27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Econom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7320" y="4051440"/>
            <a:ext cx="301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Berlin Sans FB Demi"/>
              </a:rPr>
              <a:t>Mercadólog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440" y="5124600"/>
            <a:ext cx="35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Administr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328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 rot="721800">
            <a:off x="394920" y="1341000"/>
            <a:ext cx="360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Berlin Sans FB Demi"/>
              </a:rPr>
              <a:t>Habilidad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Berlin Sans FB Demi"/>
              <a:ea typeface="Berlin Sans FB Dem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rcRect l="6753" t="0" r="7844" b="76825"/>
          <a:stretch/>
        </p:blipFill>
        <p:spPr>
          <a:xfrm rot="20662200">
            <a:off x="5292720" y="259920"/>
            <a:ext cx="3564000" cy="1668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42160" y="561168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0720" y="4941720"/>
            <a:ext cx="20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50520" y="3666960"/>
            <a:ext cx="367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isión integ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4172040"/>
            <a:ext cx="16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st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328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 rot="721800">
            <a:off x="394920" y="1341000"/>
            <a:ext cx="360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Berlin Sans FB Demi"/>
              </a:rPr>
              <a:t>Dominar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Berlin Sans FB Demi"/>
              <a:ea typeface="Berlin Sans FB Dem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6753" t="0" r="7844" b="76825"/>
          <a:stretch/>
        </p:blipFill>
        <p:spPr>
          <a:xfrm rot="20662200">
            <a:off x="5292720" y="259920"/>
            <a:ext cx="3564000" cy="1668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56800" y="5300640"/>
            <a:ext cx="396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Procedimientos teórico-prác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operativos y técn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64200" y="400536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Planes y estrategias de nego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6200" y="2708280"/>
            <a:ext cx="31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Instrumentos econó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ntique Olive Compact"/>
              </a:rPr>
              <a:t>financieros y con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32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 rot="721800">
            <a:off x="394920" y="333000"/>
            <a:ext cx="360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Berlin Sans FB Demi"/>
              </a:rPr>
              <a:t>Carrera 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Berlin Sans FB Demi"/>
              <a:ea typeface="Berlin Sans FB Dem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rcRect l="6753" t="0" r="7844" b="76825"/>
          <a:stretch/>
        </p:blipFill>
        <p:spPr>
          <a:xfrm rot="20662200">
            <a:off x="5292720" y="259920"/>
            <a:ext cx="3564000" cy="1668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2960" y="2708280"/>
            <a:ext cx="411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ras Bold ITC"/>
              </a:rPr>
              <a:t>sector púb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42760" y="4508640"/>
            <a:ext cx="289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Eras Bold ITC"/>
              </a:rPr>
              <a:t>empre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Eras Bold ITC"/>
              </a:rPr>
              <a:t>glob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31120" y="3284640"/>
            <a:ext cx="419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Eras Bold ITC"/>
              </a:rPr>
              <a:t>sector priv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328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 rot="721800">
            <a:off x="394920" y="333000"/>
            <a:ext cx="360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Berlin Sans FB Demi"/>
              </a:rPr>
              <a:t>Dura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Berlin Sans FB Demi"/>
              <a:ea typeface="Berlin Sans FB Dem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rcRect l="6753" t="0" r="7844" b="76825"/>
          <a:stretch/>
        </p:blipFill>
        <p:spPr>
          <a:xfrm rot="20662200">
            <a:off x="5292720" y="259920"/>
            <a:ext cx="3564000" cy="1668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03280" y="3428640"/>
            <a:ext cx="50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2 años, 6 tetrames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328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24000" y="1268280"/>
            <a:ext cx="5299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23:48:02Z</dcterms:created>
  <dc:creator>Especialidades-B</dc:creator>
  <dc:description/>
  <dc:language>en-US</dc:language>
  <cp:lastModifiedBy>Ucem 2008</cp:lastModifiedBy>
  <dcterms:modified xsi:type="dcterms:W3CDTF">2009-01-20T14:38:18Z</dcterms:modified>
  <cp:revision>15</cp:revision>
  <dc:subject/>
  <dc:title>Diapositiva 1</dc:title>
</cp:coreProperties>
</file>